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708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21896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7008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01436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2A9721E-E55A-4E1D-A25D-11638325C3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394353A-DB77-4827-8BFC-8680DFDE80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553A009-9A3D-48B2-93C7-FE70CA4E17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D313638-E038-4B6B-86BE-0BDA03FA12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D5245D4-AD7D-4ED1-ADEE-CC0E9B87A4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1F5AF68-51C7-4B9B-93E1-2D8A965CAC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35E5EAD-2372-45A3-BAEB-B657ACCA2D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E28465B-D6EB-41FD-B93F-511D627D7C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8FA1FD2-1743-4861-A2FC-97AE14347E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94A8B12-7606-4403-AFB6-440F19A9D4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A0AC98E-AC10-4E21-BC1D-B333E9B76C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0E294F2-CC8F-41F2-81BF-A6C63CD312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4B1E30C-3057-4E7E-8D88-5F75A67B98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46C0BE1-3F06-4E1C-8A23-948F7AE8F4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C5ADDFE-DFC7-4EDD-A095-7D5888DF52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63F2025-A495-4008-B2D4-B50E0690C1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A675760-1FEC-43B7-BC2A-D8F9BFD1D7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8DD4E8B-1EF0-458D-AF31-5A305DAF80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C5020E2-2E06-42CB-BA1E-0BE5B6B613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7A9A57B-9EF8-4939-A98E-4ADEC2F1AC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14720" y="8829720"/>
            <a:ext cx="3070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40782B5-4B76-4CCA-8DF9-E66AE5622E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1932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416120"/>
            <a:ext cx="56703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48560"/>
            <a:ext cx="8534160" cy="22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48560"/>
            <a:ext cx="85341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1" name="Rectangle 3">
            <a:hlinkClick r:id="" action="ppaction://hlinkshowjump?jump=previousslide"/>
          </p:cNvPr>
          <p:cNvSpPr/>
          <p:nvPr/>
        </p:nvSpPr>
        <p:spPr>
          <a:xfrm>
            <a:off x="320040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">
            <a:hlinkClick r:id="" action="ppaction://hlinkshowjump?jump=nextslide"/>
          </p:cNvPr>
          <p:cNvSpPr/>
          <p:nvPr/>
        </p:nvSpPr>
        <p:spPr>
          <a:xfrm>
            <a:off x="44956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6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2" name="Rectangle 3">
            <a:hlinkClick r:id="" action="ppaction://hlinkshowjump?jump=endshow"/>
          </p:cNvPr>
          <p:cNvSpPr/>
          <p:nvPr/>
        </p:nvSpPr>
        <p:spPr>
          <a:xfrm>
            <a:off x="7696080" y="6095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4">
            <a:hlinkClick r:id="" action="ppaction://hlinkshowjump?jump=firstslide"/>
          </p:cNvPr>
          <p:cNvSpPr/>
          <p:nvPr/>
        </p:nvSpPr>
        <p:spPr>
          <a:xfrm>
            <a:off x="5803920" y="609588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6"/>
          <p:cNvSpPr/>
          <p:nvPr/>
        </p:nvSpPr>
        <p:spPr>
          <a:xfrm>
            <a:off x="1066680" y="2057400"/>
            <a:ext cx="73152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8840" indent="-205884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058840" indent="-2058840"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nit 4</a:t>
            </a:r>
            <a:br>
              <a:rPr sz="2500"/>
            </a:b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Literary Focus Essay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9" name="Rectangle 17">
            <a:hlinkClick r:id="" action="ppaction://hlinkshowjump?jump=endshow"/>
          </p:cNvPr>
          <p:cNvSpPr/>
          <p:nvPr/>
        </p:nvSpPr>
        <p:spPr>
          <a:xfrm>
            <a:off x="3048120" y="6019920"/>
            <a:ext cx="144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33520" y="1749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’ interest in natural images and themes was reflected in Gothic liter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6" descr="c05his015"/>
          <p:cNvPicPr/>
          <p:nvPr/>
        </p:nvPicPr>
        <p:blipFill>
          <a:blip r:embed="rId1"/>
          <a:stretch/>
        </p:blipFill>
        <p:spPr>
          <a:xfrm>
            <a:off x="5970600" y="2587680"/>
            <a:ext cx="2335320" cy="32004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7"/>
          <p:cNvSpPr/>
          <p:nvPr/>
        </p:nvSpPr>
        <p:spPr>
          <a:xfrm>
            <a:off x="838080" y="3959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erie set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838080" y="4492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upernatural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838080" y="504504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Questions about humans’ ability to manipulate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533520" y="27432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ovels such as Mary Shelley’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Frankenstei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ppealed to the imagination thr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ature: The Wise Tea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12" descr=""/>
          <p:cNvPicPr/>
          <p:nvPr/>
        </p:nvPicPr>
        <p:blipFill>
          <a:blip r:embed="rId2"/>
          <a:stretch/>
        </p:blipFill>
        <p:spPr>
          <a:xfrm>
            <a:off x="7086600" y="23623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0" descr=""/>
          <p:cNvPicPr/>
          <p:nvPr/>
        </p:nvPicPr>
        <p:blipFill>
          <a:blip r:embed="rId1"/>
          <a:stretch/>
        </p:blipFill>
        <p:spPr>
          <a:xfrm>
            <a:off x="6553080" y="2895480"/>
            <a:ext cx="1778040" cy="2689200"/>
          </a:xfrm>
          <a:prstGeom prst="rect">
            <a:avLst/>
          </a:prstGeom>
          <a:ln w="9360">
            <a:solidFill>
              <a:srgbClr val="669966"/>
            </a:solidFill>
            <a:miter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poets favored idealized rural sett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perience: The Worthy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352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ever, some celebrated the people who lived in crowded c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33520" y="32004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y promoted rights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838080" y="3749760"/>
            <a:ext cx="563904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ealthful liv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lief from political or economic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p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lf-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9" descr="c04s01002"/>
          <p:cNvPicPr/>
          <p:nvPr/>
        </p:nvPicPr>
        <p:blipFill>
          <a:blip r:embed="rId2"/>
          <a:stretch/>
        </p:blipFill>
        <p:spPr>
          <a:xfrm>
            <a:off x="6477120" y="2895480"/>
            <a:ext cx="1947600" cy="2743200"/>
          </a:xfrm>
          <a:prstGeom prst="rect">
            <a:avLst/>
          </a:prstGeom>
          <a:ln w="9360">
            <a:solidFill>
              <a:srgbClr val="669966"/>
            </a:solidFill>
            <a:miter/>
          </a:ln>
        </p:spPr>
      </p:pic>
      <p:pic>
        <p:nvPicPr>
          <p:cNvPr id="417" name="Picture 12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533520" y="1801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me Romantics dreamed that poetry could offer an example of model behavior to improve horrific social condi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838080" y="3097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mocratic gover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838080" y="3630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angerous fac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838080" y="4164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ild la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838080" y="46972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aissez-faire economic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licies that left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usinesses unregu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5181480" y="3782880"/>
            <a:ext cx="3353040" cy="2162880"/>
            <a:chOff x="5181480" y="3782880"/>
            <a:chExt cx="3353040" cy="2162880"/>
          </a:xfrm>
        </p:grpSpPr>
        <p:pic>
          <p:nvPicPr>
            <p:cNvPr id="425" name="Picture 10" descr="c05his005"/>
            <p:cNvPicPr/>
            <p:nvPr/>
          </p:nvPicPr>
          <p:blipFill>
            <a:blip r:embed="rId1"/>
            <a:stretch/>
          </p:blipFill>
          <p:spPr>
            <a:xfrm>
              <a:off x="5181480" y="3782880"/>
              <a:ext cx="3353040" cy="1822680"/>
            </a:xfrm>
            <a:prstGeom prst="rect">
              <a:avLst/>
            </a:prstGeom>
            <a:ln w="9360">
              <a:solidFill>
                <a:srgbClr val="669966"/>
              </a:solidFill>
              <a:miter/>
            </a:ln>
          </p:spPr>
        </p:pic>
        <p:sp>
          <p:nvSpPr>
            <p:cNvPr id="426" name="Text Box 11"/>
            <p:cNvSpPr/>
            <p:nvPr/>
          </p:nvSpPr>
          <p:spPr>
            <a:xfrm>
              <a:off x="5181480" y="5638680"/>
              <a:ext cx="33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Child workers in coal m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7" name="Text Box 13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perience: The Worthy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14" descr=""/>
          <p:cNvPicPr/>
          <p:nvPr/>
        </p:nvPicPr>
        <p:blipFill>
          <a:blip r:embed="rId2"/>
          <a:stretch/>
        </p:blipFill>
        <p:spPr>
          <a:xfrm>
            <a:off x="5581800" y="3352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5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6" descr=""/>
          <p:cNvPicPr/>
          <p:nvPr/>
        </p:nvPicPr>
        <p:blipFill>
          <a:blip r:embed="rId4"/>
          <a:stretch/>
        </p:blipFill>
        <p:spPr>
          <a:xfrm>
            <a:off x="2971800" y="44197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"/>
          <p:cNvSpPr/>
          <p:nvPr/>
        </p:nvSpPr>
        <p:spPr>
          <a:xfrm>
            <a:off x="533520" y="1295280"/>
            <a:ext cx="2209680" cy="45720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Ask Yoursel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533520" y="1752480"/>
            <a:ext cx="8076960" cy="303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11480" bIns="411480" anchor="t">
            <a:spAutoFit/>
          </a:bodyPr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1. Where did Romantic poets look for inspiration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2. Why do you think Romantic poets wrote about nature during a time of cha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533520" y="2001960"/>
            <a:ext cx="8076960" cy="285984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resses the emotions and concerns of an individual as well as of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aries the structure of traditional forms to suit a poem’s purp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cuses on a poet’s personal connection to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533520" y="1371600"/>
            <a:ext cx="8076960" cy="609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Characteristics of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1"/>
          <p:cNvSpPr/>
          <p:nvPr/>
        </p:nvSpPr>
        <p:spPr>
          <a:xfrm>
            <a:off x="685800" y="2362320"/>
            <a:ext cx="3930480" cy="335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unction over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45"/>
          <p:cNvSpPr/>
          <p:nvPr/>
        </p:nvSpPr>
        <p:spPr>
          <a:xfrm>
            <a:off x="4603680" y="2362320"/>
            <a:ext cx="3930840" cy="3352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Romantic Po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48"/>
          <p:cNvSpPr/>
          <p:nvPr/>
        </p:nvSpPr>
        <p:spPr>
          <a:xfrm>
            <a:off x="4800600" y="2895480"/>
            <a:ext cx="373392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etry was a playground of feel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49"/>
          <p:cNvSpPr/>
          <p:nvPr/>
        </p:nvSpPr>
        <p:spPr>
          <a:xfrm>
            <a:off x="684360" y="499752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Form was more important than fun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50"/>
          <p:cNvSpPr/>
          <p:nvPr/>
        </p:nvSpPr>
        <p:spPr>
          <a:xfrm>
            <a:off x="4800600" y="3581280"/>
            <a:ext cx="3733920" cy="12193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oets experimented with forms and expressed feelings in natural langu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685800" y="2514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18th Century Po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56"/>
          <p:cNvSpPr/>
          <p:nvPr/>
        </p:nvSpPr>
        <p:spPr>
          <a:xfrm>
            <a:off x="762120" y="2933640"/>
            <a:ext cx="39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Poetry was a strictly defined literary gen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57"/>
          <p:cNvSpPr/>
          <p:nvPr/>
        </p:nvSpPr>
        <p:spPr>
          <a:xfrm>
            <a:off x="760320" y="3657600"/>
            <a:ext cx="38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Poets used formal language and  structured traditional forms such as odes and sonne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59"/>
          <p:cNvSpPr/>
          <p:nvPr/>
        </p:nvSpPr>
        <p:spPr>
          <a:xfrm>
            <a:off x="4800600" y="4800600"/>
            <a:ext cx="3733920" cy="914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Function was more important than for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60"/>
          <p:cNvSpPr/>
          <p:nvPr/>
        </p:nvSpPr>
        <p:spPr>
          <a:xfrm>
            <a:off x="53352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took poetry in a new dir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61" descr=""/>
          <p:cNvPicPr/>
          <p:nvPr/>
        </p:nvPicPr>
        <p:blipFill>
          <a:blip r:embed="rId1"/>
          <a:stretch/>
        </p:blipFill>
        <p:spPr>
          <a:xfrm>
            <a:off x="7772400" y="19051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5"/>
          <p:cNvSpPr/>
          <p:nvPr/>
        </p:nvSpPr>
        <p:spPr>
          <a:xfrm>
            <a:off x="914400" y="1981080"/>
            <a:ext cx="6934320" cy="35053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Tintern Abbey” a Fir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295280" y="2514600"/>
            <a:ext cx="3657600" cy="16765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 “Tintern Abbey,” Wordsworth for the first time used blank verse that sounds like the flowing rhythms of natural spee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295280" y="4419720"/>
            <a:ext cx="3886200" cy="9903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ike other Romantics, he experimented with simpler rhythms and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15" descr="c05s02001"/>
          <p:cNvPicPr/>
          <p:nvPr/>
        </p:nvPicPr>
        <p:blipFill>
          <a:blip r:embed="rId1"/>
          <a:stretch/>
        </p:blipFill>
        <p:spPr>
          <a:xfrm>
            <a:off x="5275440" y="2133720"/>
            <a:ext cx="2192040" cy="3085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6"/>
          <p:cNvSpPr/>
          <p:nvPr/>
        </p:nvSpPr>
        <p:spPr>
          <a:xfrm>
            <a:off x="5791320" y="5467320"/>
            <a:ext cx="20955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99"/>
                </a:solidFill>
                <a:latin typeface="Verdana"/>
              </a:rPr>
              <a:t>Tintern Abbey</a:t>
            </a:r>
            <a:r>
              <a:rPr b="0" lang="en-US" sz="1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Verdana"/>
              </a:rPr>
              <a:t>by J. M. W. Turn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unction over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8"/>
          <p:cNvSpPr/>
          <p:nvPr/>
        </p:nvSpPr>
        <p:spPr>
          <a:xfrm>
            <a:off x="12193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6094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omantic 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53352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favored these poetic for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AutoShape 24"/>
          <p:cNvSpPr/>
          <p:nvPr/>
        </p:nvSpPr>
        <p:spPr>
          <a:xfrm>
            <a:off x="533520" y="251460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AutoShape 25"/>
          <p:cNvSpPr/>
          <p:nvPr/>
        </p:nvSpPr>
        <p:spPr>
          <a:xfrm>
            <a:off x="533520" y="335268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AutoShape 26"/>
          <p:cNvSpPr/>
          <p:nvPr/>
        </p:nvSpPr>
        <p:spPr>
          <a:xfrm>
            <a:off x="533520" y="419112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1219320" y="3352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n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1219320" y="4191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enserian stan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29" descr="c05s06003"/>
          <p:cNvPicPr/>
          <p:nvPr/>
        </p:nvPicPr>
        <p:blipFill>
          <a:blip r:embed="rId1"/>
          <a:stretch/>
        </p:blipFill>
        <p:spPr>
          <a:xfrm>
            <a:off x="4343400" y="2666880"/>
            <a:ext cx="3486240" cy="2543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5"/>
          <p:cNvSpPr/>
          <p:nvPr/>
        </p:nvSpPr>
        <p:spPr>
          <a:xfrm>
            <a:off x="457200" y="34776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3"/>
          <p:cNvSpPr/>
          <p:nvPr/>
        </p:nvSpPr>
        <p:spPr>
          <a:xfrm>
            <a:off x="990720" y="18288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ode is a long complex poem (usually a meditation on a serious topi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1066680" y="2743200"/>
            <a:ext cx="6934320" cy="3048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9933"/>
                </a:solidFill>
                <a:latin typeface="Verdana"/>
              </a:rPr>
              <a:t>Ode to the West Wind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5962680" y="2438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1"/>
          <p:cNvSpPr/>
          <p:nvPr/>
        </p:nvSpPr>
        <p:spPr>
          <a:xfrm>
            <a:off x="6095880" y="3240000"/>
            <a:ext cx="24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1143000" y="1447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AutoShape 16"/>
          <p:cNvSpPr/>
          <p:nvPr/>
        </p:nvSpPr>
        <p:spPr>
          <a:xfrm>
            <a:off x="533520" y="144792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1066680" y="4952880"/>
            <a:ext cx="373392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Each stanza is a variation on the sonnet fo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5" name="Group 37"/>
          <p:cNvGrpSpPr/>
          <p:nvPr/>
        </p:nvGrpSpPr>
        <p:grpSpPr>
          <a:xfrm>
            <a:off x="6095880" y="2819520"/>
            <a:ext cx="1676520" cy="2836440"/>
            <a:chOff x="6095880" y="2819520"/>
            <a:chExt cx="1676520" cy="2836440"/>
          </a:xfrm>
        </p:grpSpPr>
        <p:sp>
          <p:nvSpPr>
            <p:cNvPr id="476" name="Text Box 34"/>
            <p:cNvSpPr/>
            <p:nvPr/>
          </p:nvSpPr>
          <p:spPr>
            <a:xfrm>
              <a:off x="6095880" y="4952880"/>
              <a:ext cx="1676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99"/>
                  </a:solidFill>
                  <a:latin typeface="Verdana"/>
                </a:rPr>
                <a:t>Percy Bysshe </a:t>
              </a:r>
              <a:br>
                <a:rPr sz="1600"/>
              </a:br>
              <a:r>
                <a:rPr b="0" lang="en-US" sz="1600" spc="-1" strike="noStrike">
                  <a:solidFill>
                    <a:srgbClr val="ffff99"/>
                  </a:solidFill>
                  <a:latin typeface="Verdana"/>
                </a:rPr>
                <a:t>Shelley</a:t>
              </a:r>
              <a:r>
                <a:rPr b="0" lang="en-US" sz="2400" spc="-1" strike="noStrike">
                  <a:solidFill>
                    <a:srgbClr val="ffff99"/>
                  </a:solidFill>
                  <a:latin typeface="Verdan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77" name="Picture 35" descr="c05his009"/>
            <p:cNvPicPr/>
            <p:nvPr/>
          </p:nvPicPr>
          <p:blipFill>
            <a:blip r:embed="rId2"/>
            <a:stretch/>
          </p:blipFill>
          <p:spPr>
            <a:xfrm>
              <a:off x="6156360" y="2819520"/>
              <a:ext cx="155556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Text Box 38"/>
          <p:cNvSpPr/>
          <p:nvPr/>
        </p:nvSpPr>
        <p:spPr>
          <a:xfrm>
            <a:off x="1066680" y="3352680"/>
            <a:ext cx="5029200" cy="1600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oks both inward and outward—exalting the powerful,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ut invisible, wind and reflecting on unseen forces in the poet’s own m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3"/>
          <p:cNvSpPr/>
          <p:nvPr/>
        </p:nvSpPr>
        <p:spPr>
          <a:xfrm>
            <a:off x="1066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onnet is a fourteen-line lyric poem in iambic pentame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533520" y="3962520"/>
            <a:ext cx="807696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AutoShape 44"/>
          <p:cNvSpPr/>
          <p:nvPr/>
        </p:nvSpPr>
        <p:spPr>
          <a:xfrm>
            <a:off x="533520" y="144792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45"/>
          <p:cNvSpPr/>
          <p:nvPr/>
        </p:nvSpPr>
        <p:spPr>
          <a:xfrm>
            <a:off x="10666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Son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1066680" y="3576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 Spenserian stan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1066680" y="4067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vented by the Renaissance poet Edmund Spenser, this form has nine lines with a complex rhyme and rhythm patter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60"/>
          <p:cNvGrpSpPr/>
          <p:nvPr/>
        </p:nvGrpSpPr>
        <p:grpSpPr>
          <a:xfrm>
            <a:off x="5715000" y="1447920"/>
            <a:ext cx="2819520" cy="3047760"/>
            <a:chOff x="5715000" y="1447920"/>
            <a:chExt cx="2819520" cy="3047760"/>
          </a:xfrm>
        </p:grpSpPr>
        <p:pic>
          <p:nvPicPr>
            <p:cNvPr id="487" name="Picture 50" descr="c05mtw002"/>
            <p:cNvPicPr/>
            <p:nvPr/>
          </p:nvPicPr>
          <p:blipFill>
            <a:blip r:embed="rId1"/>
            <a:stretch/>
          </p:blipFill>
          <p:spPr>
            <a:xfrm>
              <a:off x="5730840" y="2011320"/>
              <a:ext cx="1812960" cy="24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51"/>
            <p:cNvSpPr/>
            <p:nvPr/>
          </p:nvSpPr>
          <p:spPr>
            <a:xfrm>
              <a:off x="5715000" y="1447920"/>
              <a:ext cx="281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Wordsworth made the sonnet popular again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59"/>
          <p:cNvGrpSpPr/>
          <p:nvPr/>
        </p:nvGrpSpPr>
        <p:grpSpPr>
          <a:xfrm>
            <a:off x="6197760" y="3351240"/>
            <a:ext cx="2336760" cy="2509200"/>
            <a:chOff x="6197760" y="3351240"/>
            <a:chExt cx="2336760" cy="2509200"/>
          </a:xfrm>
        </p:grpSpPr>
        <p:pic>
          <p:nvPicPr>
            <p:cNvPr id="490" name="Picture 57" descr="c05his010"/>
            <p:cNvPicPr/>
            <p:nvPr/>
          </p:nvPicPr>
          <p:blipFill>
            <a:blip r:embed="rId2"/>
            <a:stretch/>
          </p:blipFill>
          <p:spPr>
            <a:xfrm>
              <a:off x="6921360" y="3351240"/>
              <a:ext cx="16131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56"/>
            <p:cNvSpPr/>
            <p:nvPr/>
          </p:nvSpPr>
          <p:spPr>
            <a:xfrm>
              <a:off x="6197760" y="5340240"/>
              <a:ext cx="233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Byron used </a:t>
              </a:r>
              <a:br>
                <a:rPr sz="1400"/>
              </a:br>
              <a:r>
                <a:rPr b="0" lang="en-US" sz="1400" spc="-1" strike="noStrike">
                  <a:solidFill>
                    <a:srgbClr val="ffff99"/>
                  </a:solidFill>
                  <a:latin typeface="Verdana"/>
                </a:rPr>
                <a:t>the Spenserian stanza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2" name="AutoShape 64"/>
          <p:cNvSpPr/>
          <p:nvPr/>
        </p:nvSpPr>
        <p:spPr>
          <a:xfrm>
            <a:off x="533520" y="358128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33520" y="2001960"/>
            <a:ext cx="8076960" cy="34009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read of democratic ideals through the American and French Revolutions and disillusionment after failure of French R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ctions against harsh living and working conditions created for urban poor by the Industrial Revolution and laissez-faire econo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ascination with nature and country life, which seemed a blissful retreat compared to city sl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533520" y="1371600"/>
            <a:ext cx="8076960" cy="609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Influences on Romantic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533520" y="1371600"/>
            <a:ext cx="2209680" cy="45720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Ask Yoursel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533520" y="1752480"/>
            <a:ext cx="8076960" cy="211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11480" bIns="411480" anchor="t">
            <a:spAutoFit/>
          </a:bodyPr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1. What was more important to Romantic poets, form or function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2. What topics did Romantic poets pursue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49280"/>
            <a:ext cx="853416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8: Form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28480" y="2962440"/>
            <a:ext cx="80820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00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9" name="Rectangle 4">
            <a:hlinkClick r:id="" action="ppaction://hlinkshowjump?jump=firstslide"/>
          </p:cNvPr>
          <p:cNvSpPr/>
          <p:nvPr/>
        </p:nvSpPr>
        <p:spPr>
          <a:xfrm>
            <a:off x="4495680" y="60199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5335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vited readers to feel power and pa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New Focus in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527720" y="2971800"/>
            <a:ext cx="4082760" cy="2666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Romantic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533520" y="2971800"/>
            <a:ext cx="3930480" cy="2666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57200" y="3048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ugustan 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684360" y="3695760"/>
            <a:ext cx="38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Order had just been rest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4724280" y="3657600"/>
            <a:ext cx="3886200" cy="762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ciety needed social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684360" y="4341960"/>
            <a:ext cx="39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1c3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81c"/>
                </a:solidFill>
                <a:latin typeface="Verdana"/>
              </a:rPr>
              <a:t>Poets celebrated order, hierarchy, and enlightened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4724280" y="4343400"/>
            <a:ext cx="3886200" cy="12952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ets wrote about personal feelings, supported individual rights, and used everyday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533520" y="2286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ried to capture personal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21"/>
          <p:cNvSpPr/>
          <p:nvPr/>
        </p:nvSpPr>
        <p:spPr>
          <a:xfrm>
            <a:off x="457200" y="3581280"/>
            <a:ext cx="80773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22" descr=""/>
          <p:cNvPicPr/>
          <p:nvPr/>
        </p:nvPicPr>
        <p:blipFill>
          <a:blip r:embed="rId1"/>
          <a:stretch/>
        </p:blipFill>
        <p:spPr>
          <a:xfrm>
            <a:off x="6705720" y="2519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3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0"/>
          <p:cNvSpPr/>
          <p:nvPr/>
        </p:nvSpPr>
        <p:spPr>
          <a:xfrm>
            <a:off x="533520" y="16635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Romantic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es from the worl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om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7334280" y="18921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7" descr="c02his003"/>
          <p:cNvPicPr/>
          <p:nvPr/>
        </p:nvPicPr>
        <p:blipFill>
          <a:blip r:embed="rId2"/>
          <a:stretch/>
        </p:blipFill>
        <p:spPr>
          <a:xfrm>
            <a:off x="4800600" y="2152800"/>
            <a:ext cx="3733920" cy="2724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9"/>
          <p:cNvSpPr/>
          <p:nvPr/>
        </p:nvSpPr>
        <p:spPr>
          <a:xfrm>
            <a:off x="533520" y="21337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edieval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omance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tale of high adventure that idealizes knightly virtues and has supernatural el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53352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writers used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lements of romanc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go beyond neoclassical formality and explore psychological and mysterious depths of human experi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25" descr=""/>
          <p:cNvPicPr/>
          <p:nvPr/>
        </p:nvPicPr>
        <p:blipFill>
          <a:blip r:embed="rId3"/>
          <a:srcRect l="0" t="0" r="8864" b="0"/>
          <a:stretch/>
        </p:blipFill>
        <p:spPr>
          <a:xfrm>
            <a:off x="4800600" y="2144880"/>
            <a:ext cx="3733920" cy="2732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6" descr=""/>
          <p:cNvPicPr/>
          <p:nvPr/>
        </p:nvPicPr>
        <p:blipFill>
          <a:blip r:embed="rId4"/>
          <a:stretch/>
        </p:blipFill>
        <p:spPr>
          <a:xfrm>
            <a:off x="4572000" y="3873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28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New Focus in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5335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po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533520" y="362916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aw history as a cycle in which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radition and authority must b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stantly questioned to improve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v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520" y="21985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ere fascinated with youth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d innocence, particularly a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ild’s fresh view of the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3352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lieved people had to accept change to surv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0" descr="c05mtw004"/>
          <p:cNvPicPr/>
          <p:nvPr/>
        </p:nvPicPr>
        <p:blipFill>
          <a:blip r:embed="rId1"/>
          <a:stretch/>
        </p:blipFill>
        <p:spPr>
          <a:xfrm>
            <a:off x="6219720" y="1447920"/>
            <a:ext cx="2543400" cy="34858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1"/>
          <p:cNvSpPr/>
          <p:nvPr/>
        </p:nvSpPr>
        <p:spPr>
          <a:xfrm>
            <a:off x="6172200" y="4921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ercy Bysshe Shel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2" descr=""/>
          <p:cNvPicPr/>
          <p:nvPr/>
        </p:nvPicPr>
        <p:blipFill>
          <a:blip r:embed="rId2"/>
          <a:stretch/>
        </p:blipFill>
        <p:spPr>
          <a:xfrm>
            <a:off x="5638680" y="3171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3" descr=""/>
          <p:cNvPicPr/>
          <p:nvPr/>
        </p:nvPicPr>
        <p:blipFill>
          <a:blip r:embed="rId3"/>
          <a:stretch/>
        </p:blipFill>
        <p:spPr>
          <a:xfrm>
            <a:off x="3505320" y="50007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4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New Focus in Po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3520" y="17524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3328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ny say the Romantic movement began in 1798 when Wordsworth and Coleridge publishe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yrical Balla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magination: The Inspired 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41" descr="c05s02017"/>
          <p:cNvPicPr/>
          <p:nvPr/>
        </p:nvPicPr>
        <p:blipFill>
          <a:blip r:embed="rId1"/>
          <a:srcRect l="7489" t="0" r="0" b="0"/>
          <a:stretch/>
        </p:blipFill>
        <p:spPr>
          <a:xfrm>
            <a:off x="6399360" y="2362320"/>
            <a:ext cx="2211120" cy="32763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42"/>
          <p:cNvSpPr/>
          <p:nvPr/>
        </p:nvSpPr>
        <p:spPr>
          <a:xfrm>
            <a:off x="533520" y="3368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3328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are often considered nature poe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243" descr="c05his006"/>
          <p:cNvPicPr/>
          <p:nvPr/>
        </p:nvPicPr>
        <p:blipFill>
          <a:blip r:embed="rId2"/>
          <a:stretch/>
        </p:blipFill>
        <p:spPr>
          <a:xfrm>
            <a:off x="6248520" y="2286000"/>
            <a:ext cx="2438280" cy="3429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45"/>
          <p:cNvSpPr/>
          <p:nvPr/>
        </p:nvSpPr>
        <p:spPr>
          <a:xfrm>
            <a:off x="533520" y="426708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ever, they are really “mind poets” who sought to understand the bond between humans and the world of the sen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24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47" descr=""/>
          <p:cNvPicPr/>
          <p:nvPr/>
        </p:nvPicPr>
        <p:blipFill>
          <a:blip r:embed="rId4"/>
          <a:stretch/>
        </p:blipFill>
        <p:spPr>
          <a:xfrm>
            <a:off x="4876920" y="39402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tics saw imagination as the link between mind and natu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95"/>
          <p:cNvSpPr/>
          <p:nvPr/>
        </p:nvSpPr>
        <p:spPr>
          <a:xfrm>
            <a:off x="533520" y="24382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them, imaginative experi-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nces were especially moving, perhaps superior to human reason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96"/>
          <p:cNvSpPr/>
          <p:nvPr/>
        </p:nvSpPr>
        <p:spPr>
          <a:xfrm>
            <a:off x="533520" y="3978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mysterious forces of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ature inspired th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97"/>
          <p:cNvSpPr/>
          <p:nvPr/>
        </p:nvSpPr>
        <p:spPr>
          <a:xfrm>
            <a:off x="457200" y="4800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ll six of the major Romantic poets had their own ideas about imagination, but all believed that it could be stimulated by nature and the min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98" descr="NLA0017E"/>
          <p:cNvPicPr/>
          <p:nvPr/>
        </p:nvPicPr>
        <p:blipFill>
          <a:blip r:embed="rId1"/>
          <a:stretch/>
        </p:blipFill>
        <p:spPr>
          <a:xfrm>
            <a:off x="5548320" y="2335320"/>
            <a:ext cx="2986200" cy="2388960"/>
          </a:xfrm>
          <a:prstGeom prst="rect">
            <a:avLst/>
          </a:prstGeom>
          <a:ln w="9360">
            <a:solidFill>
              <a:srgbClr val="336633"/>
            </a:solidFill>
            <a:miter/>
          </a:ln>
        </p:spPr>
      </p:pic>
      <p:sp>
        <p:nvSpPr>
          <p:cNvPr id="381" name="Text Box 10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magination: The Inspired 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99" descr=""/>
          <p:cNvPicPr/>
          <p:nvPr/>
        </p:nvPicPr>
        <p:blipFill>
          <a:blip r:embed="rId2"/>
          <a:stretch/>
        </p:blipFill>
        <p:spPr>
          <a:xfrm>
            <a:off x="2514600" y="3797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0" descr=""/>
          <p:cNvPicPr/>
          <p:nvPr/>
        </p:nvPicPr>
        <p:blipFill>
          <a:blip r:embed="rId3"/>
          <a:stretch/>
        </p:blipFill>
        <p:spPr>
          <a:xfrm>
            <a:off x="4267080" y="457200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533520" y="1752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f imagination is the Romantic poet’s guide to truth, Nature is the wise teacher that can deliver the less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ature: The Wise Tea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53352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omantic poets considered themselves especially sensiti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8" descr="74180"/>
          <p:cNvPicPr/>
          <p:nvPr/>
        </p:nvPicPr>
        <p:blipFill>
          <a:blip r:embed="rId1"/>
          <a:stretch/>
        </p:blipFill>
        <p:spPr>
          <a:xfrm>
            <a:off x="4276800" y="3809880"/>
            <a:ext cx="4257720" cy="1621080"/>
          </a:xfrm>
          <a:prstGeom prst="rect">
            <a:avLst/>
          </a:prstGeom>
          <a:ln w="9360">
            <a:solidFill>
              <a:srgbClr val="669966"/>
            </a:solidFill>
            <a:miter/>
          </a:ln>
        </p:spPr>
      </p:pic>
      <p:sp>
        <p:nvSpPr>
          <p:cNvPr id="389" name="Text Box 29"/>
          <p:cNvSpPr/>
          <p:nvPr/>
        </p:nvSpPr>
        <p:spPr>
          <a:xfrm>
            <a:off x="533520" y="37339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y wanted to help people see the world in all its beauty, sadness, and tendern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1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2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llection 7: Themes of Romantic Poet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33520" y="1708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r the Romantic poets, nature was a balm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soothe the relentless hounding of an industrialized wor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533520" y="37368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ets tried to translat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cenes of natural beauty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to words so that reader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ight know the power of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atural forces to shape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ought and feel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Picture 8" descr="c05s04003"/>
          <p:cNvPicPr/>
          <p:nvPr/>
        </p:nvPicPr>
        <p:blipFill>
          <a:blip r:embed="rId1"/>
          <a:srcRect l="0" t="0" r="0" b="12486"/>
          <a:stretch/>
        </p:blipFill>
        <p:spPr>
          <a:xfrm>
            <a:off x="5105520" y="3678120"/>
            <a:ext cx="3429000" cy="21891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9"/>
          <p:cNvSpPr/>
          <p:nvPr/>
        </p:nvSpPr>
        <p:spPr>
          <a:xfrm>
            <a:off x="53352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oets had a strong sense of nature’s transformative proper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ature: The Wise Tea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2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57:50Z</dcterms:created>
  <dc:creator>gguidici@hrw.com</dc:creator>
  <dc:description/>
  <dc:language>en-US</dc:language>
  <cp:lastModifiedBy>lcipriano</cp:lastModifiedBy>
  <dcterms:modified xsi:type="dcterms:W3CDTF">2010-05-11T13:46:22Z</dcterms:modified>
  <cp:revision>284</cp:revision>
  <dc:subject>Plot &amp; Setting</dc:subject>
  <dc:title>grd 9 Col 1 Lit Focus</dc:title>
</cp:coreProperties>
</file>